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82AD-BF79-49E7-BD61-7749FC164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a whole workshop on this – advocacy is key to increasing political commi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of presentation is to stimulate thinking about advocacy in light of emergency declaration and how M&amp;E activities can contribute to advocacy effo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indicators – not because we LOVE political commitment, but because there is less experience/guidance in this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feedback on these indicators and suggestions for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ector reform – particularly decentralization, can complicate measurement of political commitment.  Devolution of power and decision making to provinces and districts may mean that data are hard to come by.  Is it even appropriate to measure political commitment at the national level in these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to another important point – are the data available to measure this?  For example, measuring budget gaps is often not as straightforward as it seems, especially when TB control is divided up among different Ministries (Health, Justice, Education, for examp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t this declaration briefly – now is a particularly good time to engage in advocacy for your program.  Heightened awareness of TB epidemic among Ministers of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ime to highlight your successes – tell ministers what you have accomplished, positive trends AND show them your weaknesses, challenges that compromise your ability to implement and expand DOT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uld include the background from the 2005 Globa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notes that strategies to overcome these constraints include supporting local government in decentralized systems, forming task forces at the provincial level, high-level advocacy missions and increasing the role of civil society in TB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cient funds – funding gaps hinder DOTS expansion, even where there appears to be enough money, there are often problems transferring funds from central to provincial and district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ublic awareness – incorrect knowledge about TB and treatment contribute to stigma associated with disease, and this compromises case detection efforts.  Report highlights the role of advocacy and communication in addressing this constraint to NTP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M&amp;E – report stresses importance of using timely data to identify problems and take correctiv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ergy between M&amp;E and political commitment – what is the 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spent time on function of M&amp;E to priority setting, identify programmatic strengths and weaknesses, important role of accoun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oes it relate to political comm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tworks</a:t>
            </a:r>
            <a:r>
              <a:rPr b="0" lang="en-US" sz="1200" spc="-1" strike="noStrike">
                <a:solidFill>
                  <a:srgbClr val="000000"/>
                </a:solidFill>
                <a:latin typeface="Arial"/>
              </a:rPr>
              <a:t> – traditionally included NGOs, activists, opinion leaders, community leaders, professional organizations, academic institu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outside the box – reflect on key partners for advocacy in context of 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o in your country is a key partner in advocacy for TB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 Gender and TB, working with women’s organizations, social mobilization, patient associa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udiences</a:t>
            </a:r>
            <a:r>
              <a:rPr b="0" lang="en-US" sz="1200" spc="-1" strike="noStrike">
                <a:solidFill>
                  <a:srgbClr val="000000"/>
                </a:solidFill>
                <a:latin typeface="Arial"/>
              </a:rPr>
              <a:t> – who doesn’t need to hear about the emergency?  Another area where we must think outside the box.  Usually think of opinion leaders and policy makers, budget plan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in a position of power to influence budget allocations, health policy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yond influencing those in position to provide resources, other examples of aud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 Private sector,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k already talked about this a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trate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ssage development</a:t>
            </a:r>
            <a:r>
              <a:rPr b="0" lang="en-US" sz="1200" spc="-1" strike="noStrike">
                <a:solidFill>
                  <a:srgbClr val="000000"/>
                </a:solidFill>
                <a:latin typeface="Arial"/>
              </a:rPr>
              <a:t> – what information needs to go to which audience and in what format?  How do you tailor messages to different audiences?  Who is the best messenger?  Pick someone your audience will trust, credible source of information.</a:t>
            </a:r>
            <a:br>
              <a:rPr sz="1200"/>
            </a:br>
            <a:r>
              <a:rPr b="0" lang="en-US" sz="1200" spc="-1" strike="noStrike">
                <a:solidFill>
                  <a:srgbClr val="000000"/>
                </a:solidFill>
                <a:latin typeface="Arial"/>
              </a:rPr>
              <a:t>Focus on what your audience needs to know, not what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 audience’s technical knowledge, motivations and inte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at you hope the audience will do as a result of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e possibl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95464-BCC4-45C4-84F9-1A2AAAA24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9865E-B3DD-46E0-80BF-68B7C0E45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3ADF1-EDF7-4292-8F77-01895E664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7B351-AAD0-4C65-89FD-56EBEAB85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A2215-240C-4648-841A-99F8251F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C1B7E-F51D-4FBA-A0C4-D5A26740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B8DA9-5C7C-4940-9FD0-9154959F5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9CB8D-05D6-46B6-9958-6C732F24B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7E185-86DD-41D2-8AC3-D28F645B9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637B-90BA-47C1-ACDD-D3130F982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6173-D690-4165-BAB2-9A3B65131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E0DA-0F2B-416C-91BE-04BDBF59B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78A8-4073-4E33-A452-F5832F3660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0000"/>
              </a:solidFill>
              <a:latin typeface="Arial"/>
            </a:endParaRPr>
          </a:p>
        </p:txBody>
      </p:sp>
      <p:sp>
        <p:nvSpPr>
          <p:cNvPr id="6" name=""/>
          <p:cNvSpPr/>
          <p:nvPr/>
        </p:nvSpPr>
        <p:spPr>
          <a:xfrm>
            <a:off x="8242200" y="6019920"/>
            <a:ext cx="180720" cy="54396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
          <p:cNvSpPr/>
          <p:nvPr/>
        </p:nvSpPr>
        <p:spPr>
          <a:xfrm>
            <a:off x="304920" y="6553080"/>
            <a:ext cx="8429400" cy="1800"/>
          </a:xfrm>
          <a:custGeom>
            <a:avLst/>
            <a:gdLst/>
            <a:ahLst/>
            <a:rect l="l" t="t" r="r" b="b"/>
            <a:pathLst>
              <a:path w="5310" h="1">
                <a:moveTo>
                  <a:pt x="0" y="0"/>
                </a:moveTo>
                <a:lnTo>
                  <a:pt x="5310" y="0"/>
                </a:lnTo>
              </a:path>
            </a:pathLst>
          </a:custGeom>
          <a:noFill/>
          <a:ln w="28440">
            <a:solidFill>
              <a:srgbClr val="000066"/>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8" name=""/>
          <p:cNvGrpSpPr/>
          <p:nvPr/>
        </p:nvGrpSpPr>
        <p:grpSpPr>
          <a:xfrm>
            <a:off x="533520" y="5486400"/>
            <a:ext cx="730080" cy="604800"/>
            <a:chOff x="533520" y="5486400"/>
            <a:chExt cx="730080" cy="604800"/>
          </a:xfrm>
        </p:grpSpPr>
        <p:sp>
          <p:nvSpPr>
            <p:cNvPr id="9"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533520" y="5486400"/>
              <a:ext cx="730080" cy="488880"/>
              <a:chOff x="533520" y="5486400"/>
              <a:chExt cx="730080" cy="488880"/>
            </a:xfrm>
          </p:grpSpPr>
          <p:sp>
            <p:nvSpPr>
              <p:cNvPr id="11"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amp;E and Advocacy</a:t>
            </a:r>
            <a:endParaRPr b="0" lang="en-US" sz="4400" spc="-1" strike="noStrike">
              <a:solidFill>
                <a:srgbClr val="3333cc"/>
              </a:solidFill>
              <a:latin typeface="Arial"/>
            </a:endParaRPr>
          </a:p>
        </p:txBody>
      </p:sp>
      <p:sp>
        <p:nvSpPr>
          <p:cNvPr id="70"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in the response to the Emergency Decla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Practical applications </a:t>
            </a:r>
            <a:r>
              <a:rPr b="0" lang="en-US" sz="2800" spc="-1" strike="noStrike">
                <a:solidFill>
                  <a:srgbClr val="3333cc"/>
                </a:solidFill>
                <a:latin typeface="Arial"/>
              </a:rPr>
              <a:t>(3)</a:t>
            </a:r>
            <a:endParaRPr b="0" lang="en-US" sz="2800" spc="-1" strike="noStrike">
              <a:solidFill>
                <a:srgbClr val="3333cc"/>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utritional support must become part of the national guidelines for TB case management.  An impact evaluation of the supplement program shows that this enhancement improves treatment completion by up to 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asuring political commitment –</a:t>
            </a:r>
            <a:br>
              <a:rPr sz="3600"/>
            </a:br>
            <a:r>
              <a:rPr b="0" lang="en-US" sz="3600" spc="-1" strike="noStrike">
                <a:solidFill>
                  <a:srgbClr val="3333cc"/>
                </a:solidFill>
                <a:latin typeface="Arial"/>
              </a:rPr>
              <a:t>How effective is your advocacy strategy?</a:t>
            </a:r>
            <a:endParaRPr b="0" lang="en-US" sz="3600" spc="-1" strike="noStrike">
              <a:solidFill>
                <a:srgbClr val="3333cc"/>
              </a:solidFill>
              <a:latin typeface="Arial"/>
            </a:endParaRPr>
          </a:p>
        </p:txBody>
      </p:sp>
      <p:sp>
        <p:nvSpPr>
          <p:cNvPr id="101"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harted territory</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suggested indicator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health sector reform</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vail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Discussion &amp; group work</a:t>
            </a:r>
            <a:endParaRPr b="0" lang="en-US" sz="4400" spc="-1" strike="noStrike">
              <a:solidFill>
                <a:srgbClr val="3333cc"/>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already been done in the short time since the decla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future pl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M&amp;E contribute to your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66680" y="380880"/>
            <a:ext cx="7620120" cy="4971600"/>
          </a:xfrm>
          <a:prstGeom prst="rect">
            <a:avLst/>
          </a:prstGeom>
          <a:solidFill>
            <a:srgbClr val="bbe2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HEALTH ORGAN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OFFICE FOR AF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 RELE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Box 6, Brazzaville, Con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DECLARES TB AN EMERGENCY IN AF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for “urgent and extraordinary actions” to halt worsening epide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uto, 26 August 2005 </a:t>
            </a:r>
            <a:r>
              <a:rPr b="0" lang="en-US" sz="2000" spc="-1" strike="noStrike">
                <a:solidFill>
                  <a:srgbClr val="000000"/>
                </a:solidFill>
                <a:latin typeface="Arial"/>
              </a:rPr>
              <a:t>-- The World Health Organization (WHO) Regional Committee for Africa, comprising health ministers from 46 Member States, has declared tuberculosis an emergency in the African region - a response to an epidemic that has more than quadrupled the annual number of new TB cases in most African countries since 1990 and is continuing to rise across the continent, killing more than half a million people every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lobal TB Report 2005</a:t>
            </a:r>
            <a:endParaRPr b="0" lang="en-US" sz="4400" spc="-1" strike="noStrike">
              <a:solidFill>
                <a:srgbClr val="3333cc"/>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s to DOTS implementation and expa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political commi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fficien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public awar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M&amp;E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Political commitment and M&amp;E</a:t>
            </a:r>
            <a:endParaRPr b="0" lang="en-US" sz="4400" spc="-1" strike="noStrike">
              <a:solidFill>
                <a:srgbClr val="3333cc"/>
              </a:solidFill>
              <a:latin typeface="Arial"/>
            </a:endParaRPr>
          </a:p>
        </p:txBody>
      </p:sp>
      <p:sp>
        <p:nvSpPr>
          <p:cNvPr id="75" name=""/>
          <p:cNvSpPr/>
          <p:nvPr/>
        </p:nvSpPr>
        <p:spPr>
          <a:xfrm>
            <a:off x="6477120" y="30481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ommitment</a:t>
            </a:r>
            <a:endParaRPr b="0" lang="en-US" sz="2400" spc="-1" strike="noStrike">
              <a:solidFill>
                <a:srgbClr val="000000"/>
              </a:solidFill>
              <a:latin typeface="Arial"/>
            </a:endParaRPr>
          </a:p>
        </p:txBody>
      </p:sp>
      <p:sp>
        <p:nvSpPr>
          <p:cNvPr id="76" name=""/>
          <p:cNvSpPr/>
          <p:nvPr/>
        </p:nvSpPr>
        <p:spPr>
          <a:xfrm>
            <a:off x="685800" y="32767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amp; Evaluation</a:t>
            </a:r>
            <a:endParaRPr b="0" lang="en-US" sz="2400" spc="-1" strike="noStrike">
              <a:solidFill>
                <a:srgbClr val="000000"/>
              </a:solidFill>
              <a:latin typeface="Arial"/>
            </a:endParaRPr>
          </a:p>
        </p:txBody>
      </p:sp>
      <p:sp>
        <p:nvSpPr>
          <p:cNvPr id="77" name=""/>
          <p:cNvSpPr/>
          <p:nvPr/>
        </p:nvSpPr>
        <p:spPr>
          <a:xfrm>
            <a:off x="6324480" y="4495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bility</a:t>
            </a:r>
            <a:endParaRPr b="0" lang="en-US" sz="2400" spc="-1" strike="noStrike">
              <a:solidFill>
                <a:srgbClr val="000000"/>
              </a:solidFill>
              <a:latin typeface="Arial"/>
            </a:endParaRPr>
          </a:p>
        </p:txBody>
      </p:sp>
      <p:sp>
        <p:nvSpPr>
          <p:cNvPr id="78" name=""/>
          <p:cNvSpPr/>
          <p:nvPr/>
        </p:nvSpPr>
        <p:spPr>
          <a:xfrm>
            <a:off x="3352680" y="48769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ies</a:t>
            </a:r>
            <a:endParaRPr b="0" lang="en-US" sz="2400" spc="-1" strike="noStrike">
              <a:solidFill>
                <a:srgbClr val="000000"/>
              </a:solidFill>
              <a:latin typeface="Arial"/>
            </a:endParaRPr>
          </a:p>
        </p:txBody>
      </p:sp>
      <p:sp>
        <p:nvSpPr>
          <p:cNvPr id="79" name=""/>
          <p:cNvSpPr/>
          <p:nvPr/>
        </p:nvSpPr>
        <p:spPr>
          <a:xfrm>
            <a:off x="3352680" y="16765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atic strengths &amp; weaknesses</a:t>
            </a:r>
            <a:endParaRPr b="0" lang="en-US" sz="2400" spc="-1" strike="noStrike">
              <a:solidFill>
                <a:srgbClr val="000000"/>
              </a:solidFill>
              <a:latin typeface="Arial"/>
            </a:endParaRPr>
          </a:p>
        </p:txBody>
      </p:sp>
      <p:sp>
        <p:nvSpPr>
          <p:cNvPr id="80" name=""/>
          <p:cNvSpPr/>
          <p:nvPr/>
        </p:nvSpPr>
        <p:spPr>
          <a:xfrm flipV="1">
            <a:off x="2362320" y="2590560"/>
            <a:ext cx="9144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257800" y="2438280"/>
            <a:ext cx="106668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438280" y="3886200"/>
            <a:ext cx="9144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666880" y="3657600"/>
            <a:ext cx="373392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800600" y="3733560"/>
            <a:ext cx="129528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72000" y="2819520"/>
            <a:ext cx="1676520" cy="19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62520" y="2971800"/>
            <a:ext cx="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238880" y="38862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8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dvocacy Networks</a:t>
            </a:r>
            <a:endParaRPr b="0" lang="en-US" sz="4400" spc="-1" strike="noStrike">
              <a:solidFill>
                <a:srgbClr val="3333cc"/>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your key partn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ies, NGOs, community leaders, faith based organizations, activists, professional associations, patient grou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utside the b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Audiences</a:t>
            </a:r>
            <a:endParaRPr b="0" lang="en-US" sz="4400" spc="-1" strike="noStrike">
              <a:solidFill>
                <a:srgbClr val="3333cc"/>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to hear about the emergency decla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in the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holds the purse str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ral pop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hort, every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essage development</a:t>
            </a:r>
            <a:endParaRPr b="0" lang="en-US" sz="4400" spc="-1" strike="noStrike">
              <a:solidFill>
                <a:srgbClr val="3333cc"/>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or messages for different audi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level of technical knowledge, motiv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fficient”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orien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want your audience to do as a result of hearing your messag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Practical applications </a:t>
            </a:r>
            <a:r>
              <a:rPr b="0" lang="en-US" sz="2800" spc="-1" strike="noStrike">
                <a:solidFill>
                  <a:srgbClr val="3333cc"/>
                </a:solidFill>
                <a:latin typeface="Arial"/>
              </a:rPr>
              <a:t>(1)</a:t>
            </a:r>
            <a:endParaRPr b="0" lang="en-US" sz="2800" spc="-1" strike="noStrike">
              <a:solidFill>
                <a:srgbClr val="3333cc"/>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i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raining facility level managers in recording and reporting is a priority issue.  Last quarter, only 80% of the clinics in the largest district submitted accurate and timely case detection and treatment outcome repor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Practical applications </a:t>
            </a:r>
            <a:r>
              <a:rPr b="0" lang="en-US" sz="2800" spc="-1" strike="noStrike">
                <a:solidFill>
                  <a:srgbClr val="3333cc"/>
                </a:solidFill>
                <a:latin typeface="Arial"/>
              </a:rPr>
              <a:t>(2)</a:t>
            </a:r>
            <a:endParaRPr b="0" lang="en-US" sz="2800" spc="-1" strike="noStrike">
              <a:solidFill>
                <a:srgbClr val="3333cc"/>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have increased the number of nurses trained in DOT by 30% this year.  In order to maintain this achievement and improve it, we will need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7T11:41:10Z</dcterms:created>
  <dc:creator>Charlotte Colvin</dc:creator>
  <dc:description/>
  <dc:language>en-US</dc:language>
  <cp:lastModifiedBy>Carolina Population Center</cp:lastModifiedBy>
  <dcterms:modified xsi:type="dcterms:W3CDTF">2006-11-08T16:52:04Z</dcterms:modified>
  <cp:revision>19</cp:revision>
  <dc:subject/>
  <dc:title>M&amp;E and Advocacy</dc:title>
</cp:coreProperties>
</file>